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597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S-XML Production Workflow                                                                                                                                                                                                                                  20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21149CF5-904B-484C-B714-FAB8D9A59700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ntonio.Grau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183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S-XML Production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ure 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S-XML Production Workf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1413000"/>
          <a:ext cx="828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Schema E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7120" y="2927520"/>
            <a:ext cx="160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5120" y="3214800"/>
            <a:ext cx="34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700280"/>
            <a:ext cx="7490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ypes (complex &amp; simple) are considered building blocks defined in separate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fined in different fold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mt – Message Type (eg. Transactio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t – Business Type (eg. Desig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t – Additional Type (eg. DesignCurrentStatus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t – Standards Type (eg. ST3Country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hell scripts put headers (date, version, etc.) into the files and merge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use of Types in different schemas (TM-XML, DS-XML, ST.66, Message-Specific Sche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Use of powerful tools available in Unix/Linux for manipulation of files (awk, shell language script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ociated Class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10644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495680" cy="306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1773360"/>
            <a:ext cx="4232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Eclip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Tools Plug-in: XSD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odel Plug-in: XMI &amp; MDL Rational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581360"/>
            <a:ext cx="3672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UML Class Diagra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- Quick Overview of XSD elements/types &amp; hierarchy in a compact siz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ed in Rational Rose (manu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iagrams printed in PDF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41720"/>
            <a:ext cx="57636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Data 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421000"/>
            <a:ext cx="381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ata Dictionary Files: elements, attributes, types and enum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isting definitions are taken from previous dictionary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pty definitions are kept empty and entered manually (using the web dictionary tool or any text edi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ictionaries also us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nline 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ocBook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421000"/>
            <a:ext cx="41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Nam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Number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Types&gt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Typ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DescriptionType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Type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Ty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IDCod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51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ID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ification number of the product 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which the design i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Description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Remark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55736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SL Transformations are applied on the XSD to generate XML dictionary fi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in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5530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557360"/>
            <a:ext cx="77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&lt;?xml-stylesheet type="text/xs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href="http://www.tm-xml.org/DS-XML/DS-XML_xsl/DS-XML_OnlineDictionary.xsl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Book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557360"/>
            <a:ext cx="77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XML – DocBook Files from XSD &amp; XML Dictionaries &amp;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nder document in HTML &amp; FOP (PDF) by applying DocBook-XSLs on XML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557360"/>
            <a:ext cx="7705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ML-Oriented Lifecycl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Comic Sans MS"/>
              </a:rPr>
              <a:t>- Applying XSL Transformations on XSD &amp; XML Dictionary files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Changing the sch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orresponding type files on Unix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change date &amp; version on header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un scripts to generate XSD unique fil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mport XSD in Window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validate XSD in Eclip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f small changes then edit corresponding diagram in Rational Ro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If big changes then generate Rational file in Eclipse and arrange layout in Rational Ros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(s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new XML data dictionari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and edit new definitions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s Structures for DocBook if neccesary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generate docbook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render to HTML &amp; PDF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Copy HTML rendition and Paste into MS Word Document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Comic Sans MS"/>
              </a:rPr>
              <a:t>That’s All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OHIM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5:12Z</dcterms:modified>
  <cp:revision>1878</cp:revision>
  <dc:subject>DS-XML</dc:subject>
  <dc:title>DS-XML Workflow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